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13DA8-326A-48F3-8697-2A144A4A6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9E277-4ED0-4965-80EE-22A4F6C1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B55B9-A840-432D-AA9D-DC1212486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D75EF-202E-4F6C-9F1E-703852C36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88DFD-A16C-4E40-96E2-A5F16ADE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A088D-B3C8-4697-ACD7-09D05245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EB19D-C138-4745-9678-DEDDA014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C682A-AA37-4CFD-980D-0B96DCC7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D87C1-473F-4AA4-9EA9-CA867AA3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0A64A-C71E-4FC8-AB0C-38E67C4A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0A483-F2F3-4D2A-850F-1E03867F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3BF93-0E41-43BC-85D2-EA214ACF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8932-E478-44F1-B529-B3FE9F04AC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dshirokov.com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0" y="2637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Garamond"/>
              </a:rPr>
              <a:t>Пример оформления презентаций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3057480" y="5734080"/>
            <a:ext cx="278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Кемерово 200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250920" y="0"/>
            <a:ext cx="86421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ятнадцатая Всероссийская научная конференция студентов-физиков и молодых ученых (ВНКСФ-1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357120"/>
            <a:ext cx="91440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Garamond"/>
              </a:rPr>
              <a:t>Краткий план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1628640"/>
            <a:ext cx="914400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066680" indent="-6094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Краткий план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1066680" indent="-6094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Обоснование актуальности задач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1066680" indent="-6094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Постановка цели/целей работы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1066680" indent="-6094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Изложение методики исследования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1066680" indent="-6094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Основные результаты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1066680" indent="-6094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Выводы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357120"/>
            <a:ext cx="91440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Garamond"/>
              </a:rPr>
              <a:t>Цели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1341360"/>
            <a:ext cx="91440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лью настоящей работы является ознакомление слушателей с навыками подготовки и представления результатов НИ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сказ о новейших достижениях в области создания презентац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вышение интереса слушателей к использованию современных средств разработки и представления результатов научной работы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казать пример оформления презентаций участникам ВНКСФ-15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357120"/>
            <a:ext cx="91440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Garamond"/>
              </a:rPr>
              <a:t>Структура презентации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95280" y="1773360"/>
          <a:ext cx="8315280" cy="4921200"/>
        </p:xfrm>
        <a:graphic>
          <a:graphicData uri="http://schemas.openxmlformats.org/drawingml/2006/table">
            <a:tbl>
              <a:tblPr/>
              <a:tblGrid>
                <a:gridCol w="5113440"/>
                <a:gridCol w="1191960"/>
                <a:gridCol w="200988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ип слайд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л-во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ремя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итульный слайд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 мин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боснование актуальности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-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становку цели работы (1-4 цели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 мин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зложение методики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-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-3 мин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сновные результаты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-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-3 мин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ыводы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-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 мин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Заключительный слайд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спомогательные слайды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Методика доклад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ечь воспринимается лучше, если она произносится докладчиком, обратившим свой взор к слушателя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тарайтесь не использовать текст на слайде как часть вашей речи; лучше поместите туда важные тезисы и лишь один-два раза обернитесь к ним, посвятив остальное время слушателя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357120"/>
            <a:ext cx="91440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Garamond"/>
              </a:rPr>
              <a:t>Критерии оценки работы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0" y="141300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Обозначена тема работ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Обозначены авторы работ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Обозначена организация, в которой проводилос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исследова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Список использованных источников и литератур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Соответствие формата и объема тезисов требования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конференци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Докладчик хорошо ориентируется в доклад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Список использованной литератур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. Рекомендации к оформлению презентаций, Дмитрий Широков,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www.dshirokov.co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. Некоторые правила подготовки, планирования, оформления и приготовления научных презентаций, Некрасов И.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временные подходы к подготовке выступления и презентации результатов научной работы,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А.С. Краснобае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0" y="2421000"/>
            <a:ext cx="91440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Garamond"/>
              </a:rPr>
              <a:t>Спасибо за внимание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1258920" y="5910120"/>
            <a:ext cx="61596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ргкомитет конференции ВНКСФ-1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22:58:33Z</dcterms:created>
  <dc:creator>MIIS</dc:creator>
  <dc:description/>
  <dc:language>en-US</dc:language>
  <cp:lastModifiedBy>Силинин А.В.</cp:lastModifiedBy>
  <dcterms:modified xsi:type="dcterms:W3CDTF">2008-12-03T06:07:43Z</dcterms:modified>
  <cp:revision>388</cp:revision>
  <dc:subject/>
  <dc:title>Use of  Nuclear Fuel Spikants  for Proliferation Deterrence </dc:title>
</cp:coreProperties>
</file>